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6EF4E-14E6-40E8-B2D6-AFA955095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4640" y="42552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486D3-8528-4FFD-B21F-440112FA3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8FCBFCE-4C03-45E8-BC2E-003FB8DDB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0E97861-024B-4F80-832A-533DA87B7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ubTitle"/>
          </p:nvPr>
        </p:nvSpPr>
        <p:spPr>
          <a:xfrm>
            <a:off x="764640" y="79200"/>
            <a:ext cx="7612200" cy="657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90478BE-F0C0-493A-BF46-DA34C7C28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90A39C9-03FB-46C5-91CC-0F484629F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6652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32A8865-53A7-405D-8D12-644DC86D2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CCED7D5-2131-4404-BF17-056428336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764640" y="42552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54AD071-1982-439A-916B-18469BDA0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46652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2D7ED70-AFD3-4ED7-9F9F-819D62E83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333828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591228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76464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5" name="PlaceHolder 6"/>
          <p:cNvSpPr>
            <a:spLocks noGrp="1"/>
          </p:cNvSpPr>
          <p:nvPr>
            <p:ph/>
          </p:nvPr>
        </p:nvSpPr>
        <p:spPr>
          <a:xfrm>
            <a:off x="333828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6" name="PlaceHolder 7"/>
          <p:cNvSpPr>
            <a:spLocks noGrp="1"/>
          </p:cNvSpPr>
          <p:nvPr>
            <p:ph/>
          </p:nvPr>
        </p:nvSpPr>
        <p:spPr>
          <a:xfrm>
            <a:off x="591228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A59A442-0631-494E-A7CB-AE84071DC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52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74F80-1B08-4046-B6A5-D193C3C13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3828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1228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464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3828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1228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412D5-676D-4B8F-9FEA-C95043E84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764640" y="79200"/>
            <a:ext cx="7612200" cy="657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4668C-F73C-46CB-B3B3-30EA8B2DB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52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764640" y="42552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52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3828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1228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76464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3828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1228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76C77-7121-4291-A0DC-56D73C82B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764640" y="79200"/>
            <a:ext cx="7612200" cy="657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652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764640" y="42552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652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33828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91228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76464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33828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591228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136BBAF-383D-4E2E-B9FF-51B197CA2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52575F7-E406-4C78-8805-B8B71C90C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135434E-AA95-44DF-88B4-6B2CC83E1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E5D4D-276A-49B9-BA56-3842653CF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5722C85-8647-4474-94A2-70A820115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E90D3FD-34D2-47B8-BB4B-ECA5214D1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764640" y="79200"/>
            <a:ext cx="7612200" cy="657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6E5A452-0A03-4DF1-A2A3-266C1C930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2A76531-4A3D-42F0-97BB-59118438A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652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FA94A5C-0BB4-4A13-A9AD-494E9FE79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6390276-B1D8-44CB-8B7B-FFC94A0FC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764640" y="42552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6F3706B-048A-451E-AF7F-D30BA98FB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652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D947323-2173-47DD-816E-44FF69FD0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33828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91228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76464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33828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591228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64635B6-CE40-4BC7-9DF2-6E38A704E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636B106-8CDD-4296-BAA8-0E2F19810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39DA6-298D-44C0-9ADE-BF002947A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C012718-C9D3-4F56-82E9-73FE71FBC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18E98AC-C022-46F2-A6FA-EAAD81F54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F91FE27-DF64-4193-94DB-75FB1CFB0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C2EC18D-F84E-4F72-AC75-9E6D61122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764640" y="79200"/>
            <a:ext cx="7612200" cy="657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13B901F-D0BE-430C-A263-FE964F29B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C9D3312-14B8-488E-8163-5F61EDF20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652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23B77EC-BCCD-449B-849D-C758C94CA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11E77D0-EDFA-45FD-8211-299FE3E7C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764640" y="42552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C7BC04B-A48E-4D71-A621-7A510528E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652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434FA88-F784-4975-914C-80DAA438F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4640" y="79200"/>
            <a:ext cx="7612200" cy="657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E367B-C857-4A05-8B67-74D195ADF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33828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91228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76464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33828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591228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26A83A6-9FE1-475E-882C-A76B2DEE3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84F8358-FACC-4FE7-94DF-399A1515C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9C5049E-5AA7-4BA6-BF3B-701B2294B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37BE1FC-BB4D-4AED-9BF6-472024916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D9C6EE2-C39B-4C9B-B886-554C4D22F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848A4C7-9101-49FF-B4F2-AF93FCA2C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764640" y="79200"/>
            <a:ext cx="7612200" cy="657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43A0906-48D6-41CC-871C-C59E4BF86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9684D96-E9B8-4F31-909C-46C80A2D4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652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C1AD2E8-23D0-41EF-B59C-B2A31D911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FA2FBF3-BD3E-446F-90E7-990641245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31BBD-B891-4B4A-BD8C-4E3F28354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764640" y="42552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846209C-BDE8-4810-9975-3B1DF533D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652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D69BF24-68B8-44B4-BA10-233340E0D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33828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591228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76464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33828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591228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1DAE137-D69D-45AE-8F7E-D5072940D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04761ED-0A10-4261-865D-CEF21A779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F6322AE-0F74-47F5-9502-B1317AC01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64DA722-6F6C-4F8D-BD05-F9D8E95D7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5F19E7B-4CEE-4364-BFD8-ADC6A9936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F4A681B-CA00-4A7A-8C37-FA82B152B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ubTitle"/>
          </p:nvPr>
        </p:nvSpPr>
        <p:spPr>
          <a:xfrm>
            <a:off x="764640" y="79200"/>
            <a:ext cx="7612200" cy="657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611B175-81C2-499F-891C-2CA774DE7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0E96A71-C952-4FE8-9E1C-3755B1E0B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52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DA7D5-D376-4E45-9487-9425304E4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6652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352A929-BED9-43A5-8593-A25E48D55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10AE7B2-3B8C-428C-A5F9-39B7A7EDF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764640" y="42552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7FB17B1-9203-4D04-891B-A8A088CCA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6652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E60C023-C21A-4CFE-ABB4-8A8170D26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333828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591228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76464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3" name="PlaceHolder 6"/>
          <p:cNvSpPr>
            <a:spLocks noGrp="1"/>
          </p:cNvSpPr>
          <p:nvPr>
            <p:ph/>
          </p:nvPr>
        </p:nvSpPr>
        <p:spPr>
          <a:xfrm>
            <a:off x="333828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4" name="PlaceHolder 7"/>
          <p:cNvSpPr>
            <a:spLocks noGrp="1"/>
          </p:cNvSpPr>
          <p:nvPr>
            <p:ph/>
          </p:nvPr>
        </p:nvSpPr>
        <p:spPr>
          <a:xfrm>
            <a:off x="591228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FE1C0B6-6271-40F0-B631-BEA9B41C3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EBE0471-ADE0-420C-BB83-21A2DDD1C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4104DB2-4794-4AC9-A3B9-C1F45CCDB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90557B5-D78A-4495-9A37-282C941C0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08B778D-0503-4EC0-BEC2-3BCB1EDBA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31C7F84-7A96-45D4-9733-58D36F869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8DAAE-9434-4462-928C-F1B12EBD4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ubTitle"/>
          </p:nvPr>
        </p:nvSpPr>
        <p:spPr>
          <a:xfrm>
            <a:off x="764640" y="79200"/>
            <a:ext cx="7612200" cy="657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2362426-6363-4093-ADB1-0CDAAE260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07A3F50-3E25-40E9-BD33-535B0853C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6652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BA07EE9-C1F8-4D74-BFDD-D2D1CA60B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4F39FF6-FBED-4FFB-94D6-A99315234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764640" y="42552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A1036CA-20DC-4B3A-B790-CA48CA942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6652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F733D20-6633-48EC-A08C-7FC54CDE4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333828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91228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76464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/>
          </p:nvPr>
        </p:nvSpPr>
        <p:spPr>
          <a:xfrm>
            <a:off x="333828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5" name="PlaceHolder 7"/>
          <p:cNvSpPr>
            <a:spLocks noGrp="1"/>
          </p:cNvSpPr>
          <p:nvPr>
            <p:ph/>
          </p:nvPr>
        </p:nvSpPr>
        <p:spPr>
          <a:xfrm>
            <a:off x="591228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2B185C8-7644-4076-BA71-E1B3307AF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2FDB14A-03A3-4698-A6DC-A5AF316E3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subTitle"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3FD0E9A-1496-4379-9F29-31E464744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1E753FD-8780-4F1E-B829-8DF81F484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Book Antiqua"/>
              </a:rPr>
              <a:t>Click to edit the title text format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336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10350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3" marL="1371600" indent="-336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4" marL="17208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5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6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4424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0524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EC42E-1FDF-4CCD-BE19-2FE4B26374F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Book Antiqua"/>
              </a:rPr>
              <a:t>Click to edit the title text format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336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10350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3" marL="1371600" indent="-336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4" marL="17208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5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6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4424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Book Antiqua"/>
              </a:rPr>
              <a:t>Click to edit the title text format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336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10350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3" marL="1371600" indent="-336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4" marL="17208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5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6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7"/>
          </p:nvPr>
        </p:nvSpPr>
        <p:spPr>
          <a:xfrm>
            <a:off x="44424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Book Antiqua"/>
              </a:rPr>
              <a:t>Click to edit the title text format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336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10350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3" marL="1371600" indent="-336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4" marL="17208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5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6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9"/>
          </p:nvPr>
        </p:nvSpPr>
        <p:spPr>
          <a:xfrm>
            <a:off x="44424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10"/>
          </p:nvPr>
        </p:nvSpPr>
        <p:spPr>
          <a:xfrm>
            <a:off x="430524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BEB25-92A2-4E65-8D77-56ECE586FA7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Book Antiqua"/>
              </a:rPr>
              <a:t>Click to edit the title text format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336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10350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3" marL="1371600" indent="-336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4" marL="17208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5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6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dt" idx="1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 type="ftr" idx="12"/>
          </p:nvPr>
        </p:nvSpPr>
        <p:spPr>
          <a:xfrm>
            <a:off x="44424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 type="sldNum" idx="13"/>
          </p:nvPr>
        </p:nvSpPr>
        <p:spPr>
          <a:xfrm>
            <a:off x="430524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863D0-9061-4FBA-8570-82D4FA1B88A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Book Antiqua"/>
              </a:rPr>
              <a:t>Click to edit the title text format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336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10350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3" marL="1371600" indent="-336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4" marL="17208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5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6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dt" idx="14"/>
          </p:nvPr>
        </p:nvSpPr>
        <p:spPr>
          <a:xfrm>
            <a:off x="4495320" y="6356520"/>
            <a:ext cx="1143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 type="ftr" idx="15"/>
          </p:nvPr>
        </p:nvSpPr>
        <p:spPr>
          <a:xfrm>
            <a:off x="579096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 type="sldNum" idx="16"/>
          </p:nvPr>
        </p:nvSpPr>
        <p:spPr>
          <a:xfrm>
            <a:off x="1966680" y="6356520"/>
            <a:ext cx="533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94431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64A7A-D2F3-4418-B42E-907C64E57080}" type="slidenum">
              <a:rPr b="0" lang="en-US" sz="1200" spc="-1" strike="noStrike">
                <a:solidFill>
                  <a:srgbClr val="19443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Book Antiqua"/>
              </a:rPr>
              <a:t>Click to edit the title text format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336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10350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3" marL="1371600" indent="-336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4" marL="17208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5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6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 type="dt" idx="1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 type="ftr" idx="18"/>
          </p:nvPr>
        </p:nvSpPr>
        <p:spPr>
          <a:xfrm>
            <a:off x="44424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 type="sldNum" idx="19"/>
          </p:nvPr>
        </p:nvSpPr>
        <p:spPr>
          <a:xfrm>
            <a:off x="430524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F8D71-FED3-44A3-926E-8603BD80563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Book Antiqua"/>
              </a:rPr>
              <a:t>Click to edit the title text format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336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10350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3" marL="1371600" indent="-336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4" marL="17208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5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6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 type="dt" idx="20"/>
          </p:nvPr>
        </p:nvSpPr>
        <p:spPr>
          <a:xfrm>
            <a:off x="4495320" y="6356520"/>
            <a:ext cx="1143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 type="ftr" idx="21"/>
          </p:nvPr>
        </p:nvSpPr>
        <p:spPr>
          <a:xfrm>
            <a:off x="579096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 type="sldNum" idx="22"/>
          </p:nvPr>
        </p:nvSpPr>
        <p:spPr>
          <a:xfrm>
            <a:off x="1966680" y="6356520"/>
            <a:ext cx="533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94431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8F7B2-DA18-4D0E-8AED-5700DA1476F6}" type="slidenum">
              <a:rPr b="0" lang="en-US" sz="1200" spc="-1" strike="noStrike">
                <a:solidFill>
                  <a:srgbClr val="19443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Book Antiqua"/>
              </a:rPr>
              <a:t>Click to edit the title text format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336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10350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3" marL="1371600" indent="-336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4" marL="17208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5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6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 type="dt" idx="2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 type="ftr" idx="24"/>
          </p:nvPr>
        </p:nvSpPr>
        <p:spPr>
          <a:xfrm>
            <a:off x="44424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 type="sldNum" idx="25"/>
          </p:nvPr>
        </p:nvSpPr>
        <p:spPr>
          <a:xfrm>
            <a:off x="430524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A1F17-D850-44BD-817E-3AFCDCD0117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93560" y="3776400"/>
            <a:ext cx="7196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800" spc="-1" strike="noStrike">
                <a:solidFill>
                  <a:srgbClr val="194431"/>
                </a:solidFill>
                <a:latin typeface="Book Antiqua"/>
              </a:rPr>
              <a:t>Le pronom « en »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493560" y="5257440"/>
            <a:ext cx="7196400" cy="98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194431"/>
                </a:solidFill>
                <a:latin typeface="Book Antiqua"/>
              </a:rPr>
              <a:t>Révision: p60-61 dans le cahier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spd="slow">
    <p:wheel spokes="1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Book Antiqua"/>
              </a:rPr>
              <a:t>Exemples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91" name="TextBox 8"/>
          <p:cNvSpPr/>
          <p:nvPr/>
        </p:nvSpPr>
        <p:spPr>
          <a:xfrm>
            <a:off x="236160" y="2570040"/>
            <a:ext cx="1058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Book Antiqua"/>
              </a:rPr>
              <a:t>Vous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92" name="TextBox 9"/>
          <p:cNvSpPr/>
          <p:nvPr/>
        </p:nvSpPr>
        <p:spPr>
          <a:xfrm>
            <a:off x="2158920" y="2548080"/>
            <a:ext cx="1421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Book Antiqua"/>
              </a:rPr>
              <a:t>mettez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93" name="TextBox 10"/>
          <p:cNvSpPr/>
          <p:nvPr/>
        </p:nvSpPr>
        <p:spPr>
          <a:xfrm>
            <a:off x="4227480" y="2536920"/>
            <a:ext cx="3318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Book Antiqua"/>
              </a:rPr>
              <a:t>de la mayonnaise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94" name="TextBox 11"/>
          <p:cNvSpPr/>
          <p:nvPr/>
        </p:nvSpPr>
        <p:spPr>
          <a:xfrm>
            <a:off x="4636440" y="3328920"/>
            <a:ext cx="35319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Book Antiqua"/>
              </a:rPr>
              <a:t>sur vos sandwichs.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95" name="TextBox 12"/>
          <p:cNvSpPr/>
          <p:nvPr/>
        </p:nvSpPr>
        <p:spPr>
          <a:xfrm>
            <a:off x="1851120" y="2548080"/>
            <a:ext cx="631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Book Antiqua"/>
              </a:rPr>
              <a:t>en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96" name="TextBox 13"/>
          <p:cNvSpPr/>
          <p:nvPr/>
        </p:nvSpPr>
        <p:spPr>
          <a:xfrm>
            <a:off x="1258200" y="2570040"/>
            <a:ext cx="631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Book Antiqua"/>
              </a:rPr>
              <a:t>ne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97" name="TextBox 14"/>
          <p:cNvSpPr/>
          <p:nvPr/>
        </p:nvSpPr>
        <p:spPr>
          <a:xfrm>
            <a:off x="3516840" y="2548080"/>
            <a:ext cx="811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Book Antiqua"/>
              </a:rPr>
              <a:t>pas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98" name="TextBox 15"/>
          <p:cNvSpPr/>
          <p:nvPr/>
        </p:nvSpPr>
        <p:spPr>
          <a:xfrm>
            <a:off x="848160" y="5010120"/>
            <a:ext cx="7431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Book Antiqua"/>
              </a:rPr>
              <a:t>Vous n’en mettez pas sur vos sandwichs.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99" name="TextBox 16"/>
          <p:cNvSpPr/>
          <p:nvPr/>
        </p:nvSpPr>
        <p:spPr>
          <a:xfrm>
            <a:off x="2693520" y="4481640"/>
            <a:ext cx="1832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Book Antiqua"/>
              </a:rPr>
              <a:t>Correct??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transition spd="slow">
    <p:wipe dir="l"/>
  </p:transition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96" dur="2000" fill="hold"/>
                                        <p:tgtEl>
                                          <p:spTgt spid="39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0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05" dur="2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93398E-006 1.73028E-006 L 0.06758 0.00023 E">
                                      <p:cBhvr>
                                        <p:cTn id="309" dur="2000" fill="hold"/>
                                        <p:tgtEl>
                                          <p:spTgt spid="3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82 2.22068E-007 L 0.05421 2.22068E-007 E">
                                      <p:cBhvr>
                                        <p:cTn id="313" dur="2000" fill="hold"/>
                                        <p:tgtEl>
                                          <p:spTgt spid="3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85059E-006 -4.92019E-006 L 0.04413 -0.12352 E">
                                      <p:cBhvr>
                                        <p:cTn id="323" dur="2000" fill="hold"/>
                                        <p:tgtEl>
                                          <p:spTgt spid="3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8" dur="500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Book Antiqua"/>
              </a:rPr>
              <a:t>Exemples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401" name="TextBox 3"/>
          <p:cNvSpPr/>
          <p:nvPr/>
        </p:nvSpPr>
        <p:spPr>
          <a:xfrm>
            <a:off x="775800" y="2570040"/>
            <a:ext cx="805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Book Antiqua"/>
              </a:rPr>
              <a:t>Elle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02" name="TextBox 4"/>
          <p:cNvSpPr/>
          <p:nvPr/>
        </p:nvSpPr>
        <p:spPr>
          <a:xfrm>
            <a:off x="1589760" y="2570040"/>
            <a:ext cx="962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Book Antiqua"/>
              </a:rPr>
              <a:t>veut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03" name="TextBox 5"/>
          <p:cNvSpPr/>
          <p:nvPr/>
        </p:nvSpPr>
        <p:spPr>
          <a:xfrm>
            <a:off x="4121640" y="2570040"/>
            <a:ext cx="2288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Book Antiqua"/>
              </a:rPr>
              <a:t>du fromage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04" name="TextBox 6"/>
          <p:cNvSpPr/>
          <p:nvPr/>
        </p:nvSpPr>
        <p:spPr>
          <a:xfrm>
            <a:off x="4564080" y="3328920"/>
            <a:ext cx="3746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Book Antiqua"/>
              </a:rPr>
              <a:t>sur son hamburger.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05" name="TextBox 7"/>
          <p:cNvSpPr/>
          <p:nvPr/>
        </p:nvSpPr>
        <p:spPr>
          <a:xfrm>
            <a:off x="2606040" y="2570040"/>
            <a:ext cx="631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Book Antiqua"/>
              </a:rPr>
              <a:t>en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06" name="TextBox 10"/>
          <p:cNvSpPr/>
          <p:nvPr/>
        </p:nvSpPr>
        <p:spPr>
          <a:xfrm>
            <a:off x="2669760" y="2583000"/>
            <a:ext cx="1398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Book Antiqua"/>
              </a:rPr>
              <a:t>mettre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07" name="TextBox 11"/>
          <p:cNvSpPr/>
          <p:nvPr/>
        </p:nvSpPr>
        <p:spPr>
          <a:xfrm>
            <a:off x="962640" y="5292720"/>
            <a:ext cx="7218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Book Antiqua"/>
              </a:rPr>
              <a:t>Elle veut en mettre sur son hamburger.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transition spd="slow">
    <p:push dir="u"/>
  </p:transition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40" dur="2000" fill="hold"/>
                                        <p:tgtEl>
                                          <p:spTgt spid="40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44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49" dur="2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mph" presetID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21600000">
                                      <p:cBhvr>
                                        <p:cTn id="353" dur="2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57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-122,-8)"/>
                                      </p:to>
                                    </p:set>
                                    <p:set>
                                      <p:cBhvr>
                                        <p:cTn id="358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22,-8)"/>
                                      </p:to>
                                    </p:set>
                                    <p:set>
                                      <p:cBhvr>
                                        <p:cTn id="359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 0 L 0.09069 0 E">
                                      <p:cBhvr>
                                        <p:cTn id="363" dur="2000" fill="hold"/>
                                        <p:tgtEl>
                                          <p:spTgt spid="4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287E-006 1.30928E-006 L 0.02363 -0.11358 E">
                                      <p:cBhvr>
                                        <p:cTn id="373" dur="2000" fill="hold"/>
                                        <p:tgtEl>
                                          <p:spTgt spid="4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Book Antiqua"/>
              </a:rPr>
              <a:t>Exemples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409" name="TextBox 3"/>
          <p:cNvSpPr/>
          <p:nvPr/>
        </p:nvSpPr>
        <p:spPr>
          <a:xfrm>
            <a:off x="212760" y="2570040"/>
            <a:ext cx="30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Book Antiqua"/>
              </a:rPr>
              <a:t>Martin et Daniel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10" name="TextBox 4"/>
          <p:cNvSpPr/>
          <p:nvPr/>
        </p:nvSpPr>
        <p:spPr>
          <a:xfrm>
            <a:off x="3931560" y="2570040"/>
            <a:ext cx="1512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Book Antiqua"/>
              </a:rPr>
              <a:t>veulent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11" name="TextBox 5"/>
          <p:cNvSpPr/>
          <p:nvPr/>
        </p:nvSpPr>
        <p:spPr>
          <a:xfrm>
            <a:off x="2550960" y="3333600"/>
            <a:ext cx="21909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Book Antiqua"/>
              </a:rPr>
              <a:t>de l’ananas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12" name="TextBox 6"/>
          <p:cNvSpPr/>
          <p:nvPr/>
        </p:nvSpPr>
        <p:spPr>
          <a:xfrm>
            <a:off x="4545360" y="3328920"/>
            <a:ext cx="4670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Book Antiqua"/>
              </a:rPr>
              <a:t>sur leurs coupes glacées.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13" name="TextBox 7"/>
          <p:cNvSpPr/>
          <p:nvPr/>
        </p:nvSpPr>
        <p:spPr>
          <a:xfrm>
            <a:off x="6076080" y="2570040"/>
            <a:ext cx="631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Book Antiqua"/>
              </a:rPr>
              <a:t>en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14" name="TextBox 8"/>
          <p:cNvSpPr/>
          <p:nvPr/>
        </p:nvSpPr>
        <p:spPr>
          <a:xfrm>
            <a:off x="3192480" y="2570040"/>
            <a:ext cx="631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Book Antiqua"/>
              </a:rPr>
              <a:t>ne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15" name="TextBox 9"/>
          <p:cNvSpPr/>
          <p:nvPr/>
        </p:nvSpPr>
        <p:spPr>
          <a:xfrm>
            <a:off x="5304240" y="2570040"/>
            <a:ext cx="811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Book Antiqua"/>
              </a:rPr>
              <a:t>pas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16" name="TextBox 12"/>
          <p:cNvSpPr/>
          <p:nvPr/>
        </p:nvSpPr>
        <p:spPr>
          <a:xfrm>
            <a:off x="6055920" y="2570040"/>
            <a:ext cx="1398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Book Antiqua"/>
              </a:rPr>
              <a:t>mettre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17" name="TextBox 13"/>
          <p:cNvSpPr/>
          <p:nvPr/>
        </p:nvSpPr>
        <p:spPr>
          <a:xfrm>
            <a:off x="752400" y="5292720"/>
            <a:ext cx="76392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Book Antiqua"/>
              </a:rPr>
              <a:t>Martin et Daniel ne veulent pas en mettre</a:t>
            </a:r>
            <a:br>
              <a:rPr sz="3000"/>
            </a:br>
            <a:r>
              <a:rPr b="0" lang="en-US" sz="3000" spc="-1" strike="noStrike">
                <a:solidFill>
                  <a:srgbClr val="ffffff"/>
                </a:solidFill>
                <a:latin typeface="Book Antiqua"/>
              </a:rPr>
              <a:t> sur leurs coupes glacées.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transition spd="med">
    <p:fade/>
  </p:transition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85" dur="2000" fill="hold"/>
                                        <p:tgtEl>
                                          <p:spTgt spid="4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89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94" dur="2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mph" presetID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21600000">
                                      <p:cBhvr>
                                        <p:cTn id="398" dur="2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02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-122,-8)"/>
                                      </p:to>
                                    </p:set>
                                    <p:set>
                                      <p:cBhvr>
                                        <p:cTn id="403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22,-8)"/>
                                      </p:to>
                                    </p:set>
                                    <p:set>
                                      <p:cBhvr>
                                        <p:cTn id="404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 0 L 0.09069 0 E">
                                      <p:cBhvr>
                                        <p:cTn id="408" dur="2000" fill="hold"/>
                                        <p:tgtEl>
                                          <p:spTgt spid="4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43989E-006 3.678E-007 L -0.24635 0.00162 E">
                                      <p:cBhvr>
                                        <p:cTn id="418" dur="2000" fill="hold"/>
                                        <p:tgtEl>
                                          <p:spTgt spid="4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Book Antiqua"/>
              </a:rPr>
              <a:t>Verbes for Duotangs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765000" y="1687320"/>
            <a:ext cx="365760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5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Boire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o drink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765000" y="2649240"/>
            <a:ext cx="3657600" cy="360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Je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Book Antiqua"/>
              </a:rPr>
              <a:t>bois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332640" indent="-33264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Tu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Book Antiqua"/>
              </a:rPr>
              <a:t>bois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332640" indent="-33264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Il/Elle/On/Qui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Book Antiqua"/>
              </a:rPr>
              <a:t>boit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332640" indent="-33264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Nous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            </a:t>
            </a:r>
            <a:r>
              <a:rPr b="1" lang="en-US" sz="2000" spc="-1" strike="noStrike">
                <a:solidFill>
                  <a:srgbClr val="ffffff"/>
                </a:solidFill>
                <a:latin typeface="Book Antiqua"/>
              </a:rPr>
              <a:t>buvons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332640" indent="-33264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Vous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Book Antiqua"/>
              </a:rPr>
              <a:t>buvez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332640" indent="-33264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Ils/Elles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           </a:t>
            </a:r>
            <a:r>
              <a:rPr b="1" lang="en-US" sz="2000" spc="-1" strike="noStrike">
                <a:solidFill>
                  <a:srgbClr val="ffffff"/>
                </a:solidFill>
                <a:latin typeface="Book Antiqua"/>
              </a:rPr>
              <a:t>boivent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719600" y="1687320"/>
            <a:ext cx="365760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5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Mettr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o pu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4719600" y="2649240"/>
            <a:ext cx="3657600" cy="360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Je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Book Antiqua"/>
              </a:rPr>
              <a:t>mets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332640" indent="-33264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Tu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Book Antiqua"/>
              </a:rPr>
              <a:t>mets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332640" indent="-33264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Il/Elle/On/Qui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Book Antiqua"/>
              </a:rPr>
              <a:t>met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332640" indent="-33264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Nous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           </a:t>
            </a:r>
            <a:r>
              <a:rPr b="1" lang="en-US" sz="2000" spc="-1" strike="noStrike">
                <a:solidFill>
                  <a:srgbClr val="ffffff"/>
                </a:solidFill>
                <a:latin typeface="Book Antiqua"/>
              </a:rPr>
              <a:t>mettons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332640" indent="-33264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Vous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            </a:t>
            </a:r>
            <a:r>
              <a:rPr b="1" lang="en-US" sz="2000" spc="-1" strike="noStrike">
                <a:solidFill>
                  <a:srgbClr val="ffffff"/>
                </a:solidFill>
                <a:latin typeface="Book Antiqua"/>
              </a:rPr>
              <a:t>mettez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332640" indent="-33264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Ils/Elles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           </a:t>
            </a:r>
            <a:r>
              <a:rPr b="1" lang="en-US" sz="2000" spc="-1" strike="noStrike">
                <a:solidFill>
                  <a:srgbClr val="ffffff"/>
                </a:solidFill>
                <a:latin typeface="Book Antiqua"/>
              </a:rPr>
              <a:t>mettent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Book Antiqua"/>
              </a:rPr>
              <a:t>BIG RULE: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0" y="1711440"/>
            <a:ext cx="9144000" cy="514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Book Antiqua"/>
              </a:rPr>
              <a:t>Always put “EN” before the </a:t>
            </a:r>
            <a:r>
              <a:rPr b="1" lang="en-US" sz="5400" spc="-1" strike="noStrike" u="sng">
                <a:solidFill>
                  <a:srgbClr val="ffffff"/>
                </a:solidFill>
                <a:uFillTx/>
                <a:latin typeface="Book Antiqua"/>
              </a:rPr>
              <a:t>LAST VERB</a:t>
            </a:r>
            <a:r>
              <a:rPr b="0" lang="en-US" sz="5400" spc="-1" strike="noStrike">
                <a:solidFill>
                  <a:srgbClr val="ffffff"/>
                </a:solidFill>
                <a:latin typeface="Book Antiqua"/>
              </a:rPr>
              <a:t> in the sentence!!!!</a:t>
            </a:r>
            <a:endParaRPr b="0" lang="en-US" sz="5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spd="slow">
    <p:circle/>
  </p:transition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31" dur="500"/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Book Antiqua"/>
              </a:rPr>
              <a:t>What does “en” mean?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“</a:t>
            </a: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en” means “some”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spd="slow"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Book Antiqua"/>
              </a:rPr>
              <a:t>What do we do?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llow the same steps as when we did </a:t>
            </a:r>
            <a:r>
              <a:rPr b="1" lang="fr-CA" sz="2800" spc="-1" strike="noStrike" u="sng">
                <a:solidFill>
                  <a:srgbClr val="ffffff"/>
                </a:solidFill>
                <a:uFillTx/>
                <a:latin typeface="Book Antiqua"/>
              </a:rPr>
              <a:t>le pronom « y »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Instead of </a:t>
            </a:r>
            <a:r>
              <a:rPr b="0" lang="fr-CA" sz="2800" spc="-1" strike="noStrike">
                <a:solidFill>
                  <a:srgbClr val="ffffff"/>
                </a:solidFill>
                <a:latin typeface="Book Antiqua"/>
              </a:rPr>
              <a:t>getting rid of </a:t>
            </a:r>
            <a:r>
              <a:rPr b="1" lang="fr-CA" sz="2800" spc="-1" strike="noStrike" u="sng">
                <a:solidFill>
                  <a:srgbClr val="ffffff"/>
                </a:solidFill>
                <a:uFillTx/>
                <a:latin typeface="Book Antiqua"/>
              </a:rPr>
              <a:t>À + PLACE</a:t>
            </a:r>
            <a:r>
              <a:rPr b="0" lang="fr-CA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in the sentence, we’ll be looking to get rid of the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Book Antiqua"/>
              </a:rPr>
              <a:t>DE + WORD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in our sentence!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spd="slow">
    <p:push dir="u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Book Antiqua"/>
              </a:rPr>
              <a:t>1 Verbe - Positif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0" y="1711440"/>
            <a:ext cx="9144000" cy="514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000" spc="-1" strike="noStrike">
                <a:solidFill>
                  <a:srgbClr val="ffffff"/>
                </a:solidFill>
                <a:latin typeface="Book Antiqua"/>
              </a:rPr>
              <a:t>Il veut des tomates dans sa salade.</a:t>
            </a:r>
            <a:endParaRPr b="0" lang="en-US" sz="30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336600"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200" spc="-1" strike="noStrike">
                <a:solidFill>
                  <a:srgbClr val="ffffff"/>
                </a:solidFill>
                <a:latin typeface="Book Antiqua"/>
              </a:rPr>
              <a:t>Always replacing </a:t>
            </a:r>
            <a:r>
              <a:rPr b="1" lang="fr-CA" sz="2200" spc="-1" strike="noStrike" u="sng">
                <a:solidFill>
                  <a:srgbClr val="ffffff"/>
                </a:solidFill>
                <a:uFillTx/>
                <a:latin typeface="Book Antiqua"/>
              </a:rPr>
              <a:t>DE + WORD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336600"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200" spc="-1" strike="noStrike">
                <a:solidFill>
                  <a:srgbClr val="ffffff"/>
                </a:solidFill>
                <a:latin typeface="Book Antiqua"/>
              </a:rPr>
              <a:t>What are we replacing in this sentence?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2" marL="1035000" indent="-349200"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ffffff"/>
                </a:solidFill>
                <a:latin typeface="Book Antiqua"/>
              </a:rPr>
              <a:t>Replacing: </a:t>
            </a:r>
            <a:r>
              <a:rPr b="1" lang="fr-CA" sz="2000" spc="-1" strike="noStrike" u="sng">
                <a:solidFill>
                  <a:srgbClr val="ffffff"/>
                </a:solidFill>
                <a:uFillTx/>
                <a:latin typeface="Book Antiqua"/>
              </a:rPr>
              <a:t>DES TOMATES </a:t>
            </a:r>
            <a:r>
              <a:rPr b="0" lang="fr-CA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ffffff"/>
                </a:solidFill>
                <a:latin typeface="Book Antiqua"/>
              </a:rPr>
              <a:t>Where does « en » go in our sentence?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336600"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200" spc="-1" strike="noStrike">
                <a:solidFill>
                  <a:srgbClr val="ffffff"/>
                </a:solidFill>
                <a:latin typeface="Book Antiqua"/>
              </a:rPr>
              <a:t>Always goes before the </a:t>
            </a:r>
            <a:r>
              <a:rPr b="1" lang="fr-CA" sz="2200" spc="-1" strike="noStrike" u="sng">
                <a:solidFill>
                  <a:srgbClr val="ffffff"/>
                </a:solidFill>
                <a:uFillTx/>
                <a:latin typeface="Book Antiqua"/>
              </a:rPr>
              <a:t>VERB</a:t>
            </a:r>
            <a:r>
              <a:rPr b="0" lang="fr-CA" sz="2200" spc="-1" strike="noStrike">
                <a:solidFill>
                  <a:srgbClr val="ffffff"/>
                </a:solidFill>
                <a:latin typeface="Book Antiqua"/>
              </a:rPr>
              <a:t> in the sentence!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336600"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200" spc="-1" strike="noStrike">
                <a:solidFill>
                  <a:srgbClr val="ffffff"/>
                </a:solidFill>
                <a:latin typeface="Book Antiqua"/>
              </a:rPr>
              <a:t>What is the </a:t>
            </a:r>
            <a:r>
              <a:rPr b="1" lang="fr-CA" sz="2200" spc="-1" strike="noStrike" u="sng">
                <a:solidFill>
                  <a:srgbClr val="ffffff"/>
                </a:solidFill>
                <a:uFillTx/>
                <a:latin typeface="Book Antiqua"/>
              </a:rPr>
              <a:t>verb</a:t>
            </a:r>
            <a:r>
              <a:rPr b="0" lang="fr-CA" sz="2200" spc="-1" strike="noStrike">
                <a:solidFill>
                  <a:srgbClr val="ffffff"/>
                </a:solidFill>
                <a:latin typeface="Book Antiqua"/>
              </a:rPr>
              <a:t> in the sentence?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2" marL="1035000" indent="-349200"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ffffff"/>
                </a:solidFill>
                <a:latin typeface="Book Antiqua"/>
              </a:rPr>
              <a:t>Verb: </a:t>
            </a:r>
            <a:r>
              <a:rPr b="1" lang="fr-CA" sz="2000" spc="-1" strike="noStrike" u="sng">
                <a:solidFill>
                  <a:srgbClr val="ffffff"/>
                </a:solidFill>
                <a:uFillTx/>
                <a:latin typeface="Book Antiqua"/>
              </a:rPr>
              <a:t>VEUT</a:t>
            </a:r>
            <a:r>
              <a:rPr b="0" lang="fr-CA" sz="20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fr-CA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ffffff"/>
                </a:solidFill>
                <a:latin typeface="Book Antiqua"/>
              </a:rPr>
              <a:t>Get rid of your </a:t>
            </a:r>
            <a:r>
              <a:rPr b="1" lang="fr-CA" sz="2400" spc="-1" strike="noStrike" u="sng">
                <a:solidFill>
                  <a:srgbClr val="ffffff"/>
                </a:solidFill>
                <a:uFillTx/>
                <a:latin typeface="Book Antiqua"/>
              </a:rPr>
              <a:t>DE + WORD</a:t>
            </a:r>
            <a:r>
              <a:rPr b="1" lang="fr-CA" sz="24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fr-CA" sz="2400" spc="-1" strike="noStrike">
                <a:solidFill>
                  <a:srgbClr val="ffffff"/>
                </a:solidFill>
                <a:latin typeface="Book Antiqua"/>
              </a:rPr>
              <a:t>and put « en » in front of your </a:t>
            </a:r>
            <a:r>
              <a:rPr b="0" lang="fr-CA" sz="2400" spc="-1" strike="noStrike" u="sng">
                <a:solidFill>
                  <a:srgbClr val="ffffff"/>
                </a:solidFill>
                <a:uFillTx/>
                <a:latin typeface="Book Antiqua"/>
              </a:rPr>
              <a:t>last</a:t>
            </a:r>
            <a:r>
              <a:rPr b="0" lang="fr-CA" sz="2400" spc="-1" strike="noStrike">
                <a:solidFill>
                  <a:srgbClr val="ffffff"/>
                </a:solidFill>
                <a:latin typeface="Book Antiqua"/>
              </a:rPr>
              <a:t> verb: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336600"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000" spc="-1" strike="noStrike">
                <a:solidFill>
                  <a:srgbClr val="ffffff"/>
                </a:solidFill>
                <a:latin typeface="Book Antiqua"/>
              </a:rPr>
              <a:t>Il </a:t>
            </a:r>
            <a:r>
              <a:rPr b="1" lang="fr-CA" sz="3000" spc="-1" strike="noStrike" u="sng">
                <a:solidFill>
                  <a:srgbClr val="ffffff"/>
                </a:solidFill>
                <a:uFillTx/>
                <a:latin typeface="Book Antiqua"/>
              </a:rPr>
              <a:t>en</a:t>
            </a:r>
            <a:r>
              <a:rPr b="1" lang="fr-CA" sz="3000" spc="-1" strike="noStrike">
                <a:solidFill>
                  <a:srgbClr val="ffffff"/>
                </a:solidFill>
                <a:latin typeface="Book Antiqua"/>
              </a:rPr>
              <a:t> veut dans sa salade.</a:t>
            </a:r>
            <a:endParaRPr b="0" lang="en-US" sz="30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spd="slow">
    <p:checker dir="horz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" dur="500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" dur="500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" dur="500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" dur="500"/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" dur="500"/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" dur="500"/>
                                        <p:tgtEl>
                                          <p:spTgt spid="3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" dur="500"/>
                                        <p:tgtEl>
                                          <p:spTgt spid="3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" dur="500"/>
                                        <p:tgtEl>
                                          <p:spTgt spid="3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" dur="500"/>
                                        <p:tgtEl>
                                          <p:spTgt spid="3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" dur="500"/>
                                        <p:tgtEl>
                                          <p:spTgt spid="3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Book Antiqua"/>
              </a:rPr>
              <a:t>1 Verbe - Négatif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0" y="1711440"/>
            <a:ext cx="9144000" cy="514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000" spc="-1" strike="noStrike">
                <a:solidFill>
                  <a:srgbClr val="ffffff"/>
                </a:solidFill>
                <a:latin typeface="Book Antiqua"/>
              </a:rPr>
              <a:t>Il ne veut pas des tomates dans sa salade.</a:t>
            </a:r>
            <a:endParaRPr b="0" lang="en-US" sz="30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336600"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200" spc="-1" strike="noStrike">
                <a:solidFill>
                  <a:srgbClr val="ffffff"/>
                </a:solidFill>
                <a:latin typeface="Book Antiqua"/>
              </a:rPr>
              <a:t>Always replacing </a:t>
            </a:r>
            <a:r>
              <a:rPr b="1" lang="fr-CA" sz="2200" spc="-1" strike="noStrike" u="sng">
                <a:solidFill>
                  <a:srgbClr val="ffffff"/>
                </a:solidFill>
                <a:uFillTx/>
                <a:latin typeface="Book Antiqua"/>
              </a:rPr>
              <a:t>DE + WORD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336600"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200" spc="-1" strike="noStrike">
                <a:solidFill>
                  <a:srgbClr val="ffffff"/>
                </a:solidFill>
                <a:latin typeface="Book Antiqua"/>
              </a:rPr>
              <a:t>What are we replacing in this sentence?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2" marL="1035000" indent="-349200"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ffffff"/>
                </a:solidFill>
                <a:latin typeface="Book Antiqua"/>
              </a:rPr>
              <a:t>Replacing: </a:t>
            </a:r>
            <a:r>
              <a:rPr b="1" lang="fr-CA" sz="2000" spc="-1" strike="noStrike" u="sng">
                <a:solidFill>
                  <a:srgbClr val="ffffff"/>
                </a:solidFill>
                <a:uFillTx/>
                <a:latin typeface="Book Antiqua"/>
              </a:rPr>
              <a:t>DES TOMATES </a:t>
            </a:r>
            <a:r>
              <a:rPr b="0" lang="fr-CA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ffffff"/>
                </a:solidFill>
                <a:latin typeface="Book Antiqua"/>
              </a:rPr>
              <a:t>Where does « en » go in our sentence?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336600"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200" spc="-1" strike="noStrike">
                <a:solidFill>
                  <a:srgbClr val="ffffff"/>
                </a:solidFill>
                <a:latin typeface="Book Antiqua"/>
              </a:rPr>
              <a:t>Always goes before the </a:t>
            </a:r>
            <a:r>
              <a:rPr b="1" lang="fr-CA" sz="2200" spc="-1" strike="noStrike" u="sng">
                <a:solidFill>
                  <a:srgbClr val="ffffff"/>
                </a:solidFill>
                <a:uFillTx/>
                <a:latin typeface="Book Antiqua"/>
              </a:rPr>
              <a:t>VERB</a:t>
            </a:r>
            <a:r>
              <a:rPr b="1" lang="fr-CA" sz="22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fr-CA" sz="2200" spc="-1" strike="noStrike">
                <a:solidFill>
                  <a:srgbClr val="ffffff"/>
                </a:solidFill>
                <a:latin typeface="Book Antiqua"/>
              </a:rPr>
              <a:t>in the sentence!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336600"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200" spc="-1" strike="noStrike">
                <a:solidFill>
                  <a:srgbClr val="ffffff"/>
                </a:solidFill>
                <a:latin typeface="Book Antiqua"/>
              </a:rPr>
              <a:t>What is the verb in the sentence?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2" marL="1035000" indent="-349200"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ffffff"/>
                </a:solidFill>
                <a:latin typeface="Book Antiqua"/>
              </a:rPr>
              <a:t>Verb: </a:t>
            </a:r>
            <a:r>
              <a:rPr b="1" lang="fr-CA" sz="2000" spc="-1" strike="noStrike" u="sng">
                <a:solidFill>
                  <a:srgbClr val="ffffff"/>
                </a:solidFill>
                <a:uFillTx/>
                <a:latin typeface="Book Antiqua"/>
              </a:rPr>
              <a:t>VEUT</a:t>
            </a:r>
            <a:r>
              <a:rPr b="0" lang="fr-CA" sz="20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fr-CA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ffffff"/>
                </a:solidFill>
                <a:latin typeface="Book Antiqua"/>
              </a:rPr>
              <a:t>Get rid of your </a:t>
            </a:r>
            <a:r>
              <a:rPr b="1" lang="fr-CA" sz="2400" spc="-1" strike="noStrike" u="sng">
                <a:solidFill>
                  <a:srgbClr val="ffffff"/>
                </a:solidFill>
                <a:uFillTx/>
                <a:latin typeface="Book Antiqua"/>
              </a:rPr>
              <a:t>DE + WORD</a:t>
            </a:r>
            <a:r>
              <a:rPr b="0" lang="fr-CA" sz="2400" spc="-1" strike="noStrike">
                <a:solidFill>
                  <a:srgbClr val="ffffff"/>
                </a:solidFill>
                <a:latin typeface="Book Antiqua"/>
              </a:rPr>
              <a:t> and put « en » in front of your verb. DON’T FORGET: </a:t>
            </a:r>
            <a:r>
              <a:rPr b="1" lang="fr-CA" sz="2400" spc="-1" strike="noStrike" u="sng">
                <a:solidFill>
                  <a:srgbClr val="ffffff"/>
                </a:solidFill>
                <a:uFillTx/>
                <a:latin typeface="Book Antiqua"/>
              </a:rPr>
              <a:t>NE + VOWEL = N’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336600"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000" spc="-1" strike="noStrike">
                <a:solidFill>
                  <a:srgbClr val="ffffff"/>
                </a:solidFill>
                <a:latin typeface="Book Antiqua"/>
              </a:rPr>
              <a:t>Il </a:t>
            </a:r>
            <a:r>
              <a:rPr b="1" i="1" lang="fr-CA" sz="3000" spc="-1" strike="noStrike">
                <a:solidFill>
                  <a:srgbClr val="ffffff"/>
                </a:solidFill>
                <a:latin typeface="Book Antiqua"/>
              </a:rPr>
              <a:t>n’</a:t>
            </a:r>
            <a:r>
              <a:rPr b="1" lang="fr-CA" sz="3000" spc="-1" strike="noStrike" u="sng">
                <a:solidFill>
                  <a:srgbClr val="ffffff"/>
                </a:solidFill>
                <a:uFillTx/>
                <a:latin typeface="Book Antiqua"/>
              </a:rPr>
              <a:t>en</a:t>
            </a:r>
            <a:r>
              <a:rPr b="1" lang="fr-CA" sz="3000" spc="-1" strike="noStrike">
                <a:solidFill>
                  <a:srgbClr val="ffffff"/>
                </a:solidFill>
                <a:latin typeface="Book Antiqua"/>
              </a:rPr>
              <a:t> veut </a:t>
            </a:r>
            <a:r>
              <a:rPr b="1" i="1" lang="fr-CA" sz="3000" spc="-1" strike="noStrike">
                <a:solidFill>
                  <a:srgbClr val="ffffff"/>
                </a:solidFill>
                <a:latin typeface="Book Antiqua"/>
              </a:rPr>
              <a:t>pas</a:t>
            </a:r>
            <a:r>
              <a:rPr b="1" lang="fr-CA" sz="3000" spc="-1" strike="noStrike">
                <a:solidFill>
                  <a:srgbClr val="ffffff"/>
                </a:solidFill>
                <a:latin typeface="Book Antiqua"/>
              </a:rPr>
              <a:t> dans sa salade.</a:t>
            </a:r>
            <a:endParaRPr b="0" lang="en-US" sz="30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spd="slow">
    <p:dissolve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3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3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3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3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3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Book Antiqua"/>
              </a:rPr>
              <a:t>2 Verbes - Positif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0" y="1711440"/>
            <a:ext cx="9144000" cy="514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000" spc="-1" strike="noStrike">
                <a:solidFill>
                  <a:srgbClr val="ffffff"/>
                </a:solidFill>
                <a:latin typeface="Book Antiqua"/>
              </a:rPr>
              <a:t>Il veut mettre de la laitue dans sa salade.</a:t>
            </a:r>
            <a:endParaRPr b="0" lang="en-US" sz="30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336600"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200" spc="-1" strike="noStrike">
                <a:solidFill>
                  <a:srgbClr val="ffffff"/>
                </a:solidFill>
                <a:latin typeface="Book Antiqua"/>
              </a:rPr>
              <a:t>Always replacing </a:t>
            </a:r>
            <a:r>
              <a:rPr b="1" lang="fr-CA" sz="2200" spc="-1" strike="noStrike" u="sng">
                <a:solidFill>
                  <a:srgbClr val="ffffff"/>
                </a:solidFill>
                <a:uFillTx/>
                <a:latin typeface="Book Antiqua"/>
              </a:rPr>
              <a:t>DE + WORD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336600"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200" spc="-1" strike="noStrike">
                <a:solidFill>
                  <a:srgbClr val="ffffff"/>
                </a:solidFill>
                <a:latin typeface="Book Antiqua"/>
              </a:rPr>
              <a:t>What are we replacing in this sentence?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2" marL="1035000" indent="-349200"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ffffff"/>
                </a:solidFill>
                <a:latin typeface="Book Antiqua"/>
              </a:rPr>
              <a:t>Replacing: </a:t>
            </a:r>
            <a:r>
              <a:rPr b="1" lang="fr-CA" sz="2000" spc="-1" strike="noStrike" u="sng">
                <a:solidFill>
                  <a:srgbClr val="ffffff"/>
                </a:solidFill>
                <a:uFillTx/>
                <a:latin typeface="Book Antiqua"/>
              </a:rPr>
              <a:t>DE LA LAITUE</a:t>
            </a:r>
            <a:r>
              <a:rPr b="0" lang="fr-CA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ffffff"/>
                </a:solidFill>
                <a:latin typeface="Book Antiqua"/>
              </a:rPr>
              <a:t>Where does « en » go in our sentence?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336600"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200" spc="-1" strike="noStrike">
                <a:solidFill>
                  <a:srgbClr val="ffffff"/>
                </a:solidFill>
                <a:latin typeface="Book Antiqua"/>
              </a:rPr>
              <a:t>Always goes </a:t>
            </a:r>
            <a:r>
              <a:rPr b="1" lang="fr-CA" sz="2200" spc="-1" strike="noStrike" u="sng">
                <a:solidFill>
                  <a:srgbClr val="ffffff"/>
                </a:solidFill>
                <a:uFillTx/>
                <a:latin typeface="Book Antiqua"/>
              </a:rPr>
              <a:t>BETWEEN THE VERBS</a:t>
            </a:r>
            <a:r>
              <a:rPr b="0" lang="fr-CA" sz="2200" spc="-1" strike="noStrike">
                <a:solidFill>
                  <a:srgbClr val="ffffff"/>
                </a:solidFill>
                <a:latin typeface="Book Antiqua"/>
              </a:rPr>
              <a:t> in the sentence!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336600"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200" spc="-1" strike="noStrike">
                <a:solidFill>
                  <a:srgbClr val="ffffff"/>
                </a:solidFill>
                <a:latin typeface="Book Antiqua"/>
              </a:rPr>
              <a:t>What are the verbs in the sentence?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2" marL="1035000" indent="-349200"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ffffff"/>
                </a:solidFill>
                <a:latin typeface="Book Antiqua"/>
              </a:rPr>
              <a:t>Verbs: </a:t>
            </a:r>
            <a:r>
              <a:rPr b="1" lang="fr-CA" sz="2000" spc="-1" strike="noStrike" u="sng">
                <a:solidFill>
                  <a:srgbClr val="ffffff"/>
                </a:solidFill>
                <a:uFillTx/>
                <a:latin typeface="Book Antiqua"/>
              </a:rPr>
              <a:t>VEUT</a:t>
            </a:r>
            <a:r>
              <a:rPr b="0" lang="fr-CA" sz="2000" spc="-1" strike="noStrike">
                <a:solidFill>
                  <a:srgbClr val="ffffff"/>
                </a:solidFill>
                <a:latin typeface="Book Antiqua"/>
              </a:rPr>
              <a:t>    et    </a:t>
            </a:r>
            <a:r>
              <a:rPr b="1" lang="fr-CA" sz="2000" spc="-1" strike="noStrike" u="sng">
                <a:solidFill>
                  <a:srgbClr val="ffffff"/>
                </a:solidFill>
                <a:uFillTx/>
                <a:latin typeface="Book Antiqua"/>
              </a:rPr>
              <a:t>METTRE</a:t>
            </a:r>
            <a:r>
              <a:rPr b="0" lang="fr-CA" sz="20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fr-CA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ffffff"/>
                </a:solidFill>
                <a:latin typeface="Book Antiqua"/>
              </a:rPr>
              <a:t>Get rid of your </a:t>
            </a:r>
            <a:r>
              <a:rPr b="1" lang="fr-CA" sz="2400" spc="-1" strike="noStrike" u="sng">
                <a:solidFill>
                  <a:srgbClr val="ffffff"/>
                </a:solidFill>
                <a:uFillTx/>
                <a:latin typeface="Book Antiqua"/>
              </a:rPr>
              <a:t>DE + WORD</a:t>
            </a:r>
            <a:r>
              <a:rPr b="0" lang="fr-CA" sz="2400" spc="-1" strike="noStrike">
                <a:solidFill>
                  <a:srgbClr val="ffffff"/>
                </a:solidFill>
                <a:latin typeface="Book Antiqua"/>
              </a:rPr>
              <a:t> and put « en » </a:t>
            </a:r>
            <a:r>
              <a:rPr b="1" lang="fr-CA" sz="2400" spc="-1" strike="noStrike" u="sng">
                <a:solidFill>
                  <a:srgbClr val="ffffff"/>
                </a:solidFill>
                <a:uFillTx/>
                <a:latin typeface="Book Antiqua"/>
              </a:rPr>
              <a:t>BETWEEN YOUR VERBS</a:t>
            </a:r>
            <a:r>
              <a:rPr b="0" lang="fr-CA" sz="2400" spc="-1" strike="noStrike">
                <a:solidFill>
                  <a:srgbClr val="ffffff"/>
                </a:solidFill>
                <a:latin typeface="Book Antiqua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336600"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000" spc="-1" strike="noStrike">
                <a:solidFill>
                  <a:srgbClr val="ffffff"/>
                </a:solidFill>
                <a:latin typeface="Book Antiqua"/>
              </a:rPr>
              <a:t>Il veut </a:t>
            </a:r>
            <a:r>
              <a:rPr b="1" lang="fr-CA" sz="3000" spc="-1" strike="noStrike" u="sng">
                <a:solidFill>
                  <a:srgbClr val="ffffff"/>
                </a:solidFill>
                <a:uFillTx/>
                <a:latin typeface="Book Antiqua"/>
              </a:rPr>
              <a:t>en</a:t>
            </a:r>
            <a:r>
              <a:rPr b="1" lang="fr-CA" sz="3000" spc="-1" strike="noStrike">
                <a:solidFill>
                  <a:srgbClr val="ffffff"/>
                </a:solidFill>
                <a:latin typeface="Book Antiqua"/>
              </a:rPr>
              <a:t> mettre dans sa salade.</a:t>
            </a:r>
            <a:endParaRPr b="0" lang="en-US" sz="30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spd="slow">
    <p:cover dir="l"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4" dur="500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9" dur="500"/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4" dur="500"/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9" dur="500"/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4" dur="500"/>
                                        <p:tgtEl>
                                          <p:spTgt spid="3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9" dur="500"/>
                                        <p:tgtEl>
                                          <p:spTgt spid="3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4" dur="500"/>
                                        <p:tgtEl>
                                          <p:spTgt spid="3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9" dur="500"/>
                                        <p:tgtEl>
                                          <p:spTgt spid="3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4" dur="500"/>
                                        <p:tgtEl>
                                          <p:spTgt spid="3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9" dur="500"/>
                                        <p:tgtEl>
                                          <p:spTgt spid="3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Book Antiqua"/>
              </a:rPr>
              <a:t>2 Verbes - Négatif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0" y="1693440"/>
            <a:ext cx="9144000" cy="516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000" spc="-1" strike="noStrike">
                <a:solidFill>
                  <a:srgbClr val="ffffff"/>
                </a:solidFill>
                <a:latin typeface="Book Antiqua"/>
              </a:rPr>
              <a:t>Il ne veut pas mettre de la laitue dans sa salade.</a:t>
            </a:r>
            <a:endParaRPr b="0" lang="en-US" sz="3000" spc="-1" strike="noStrike">
              <a:solidFill>
                <a:srgbClr val="ffffff"/>
              </a:solidFill>
              <a:latin typeface="Book Antiqua"/>
            </a:endParaRPr>
          </a:p>
          <a:p>
            <a:pPr lvl="1" marL="644400" indent="-316080"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200" spc="-1" strike="noStrike">
                <a:solidFill>
                  <a:srgbClr val="ffffff"/>
                </a:solidFill>
                <a:latin typeface="Book Antiqua"/>
              </a:rPr>
              <a:t>Always replacing </a:t>
            </a:r>
            <a:r>
              <a:rPr b="1" lang="fr-CA" sz="2200" spc="-1" strike="noStrike" u="sng">
                <a:solidFill>
                  <a:srgbClr val="ffffff"/>
                </a:solidFill>
                <a:uFillTx/>
                <a:latin typeface="Book Antiqua"/>
              </a:rPr>
              <a:t>DE + WORD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1" marL="644400" indent="-316080"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200" spc="-1" strike="noStrike">
                <a:solidFill>
                  <a:srgbClr val="ffffff"/>
                </a:solidFill>
                <a:latin typeface="Book Antiqua"/>
              </a:rPr>
              <a:t>What are we replacing in this sentence?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2" marL="972720" indent="-327960"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ffffff"/>
                </a:solidFill>
                <a:latin typeface="Book Antiqua"/>
              </a:rPr>
              <a:t>Replacing: </a:t>
            </a:r>
            <a:r>
              <a:rPr b="1" lang="fr-CA" sz="2000" spc="-1" strike="noStrike" u="sng">
                <a:solidFill>
                  <a:srgbClr val="ffffff"/>
                </a:solidFill>
                <a:uFillTx/>
                <a:latin typeface="Book Antiqua"/>
              </a:rPr>
              <a:t>DE LA LAITUE</a:t>
            </a:r>
            <a:r>
              <a:rPr b="0" lang="fr-CA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322200" indent="-322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ffffff"/>
                </a:solidFill>
                <a:latin typeface="Book Antiqua"/>
              </a:rPr>
              <a:t>Where does « en » go in our sentence?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644400" indent="-316080"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200" spc="-1" strike="noStrike">
                <a:solidFill>
                  <a:srgbClr val="ffffff"/>
                </a:solidFill>
                <a:latin typeface="Book Antiqua"/>
              </a:rPr>
              <a:t>Always goes </a:t>
            </a:r>
            <a:r>
              <a:rPr b="1" lang="fr-CA" sz="2200" spc="-1" strike="noStrike" u="sng">
                <a:solidFill>
                  <a:srgbClr val="ffffff"/>
                </a:solidFill>
                <a:uFillTx/>
                <a:latin typeface="Book Antiqua"/>
              </a:rPr>
              <a:t>BETWEEN THE VERBS</a:t>
            </a:r>
            <a:r>
              <a:rPr b="1" lang="fr-CA" sz="22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fr-CA" sz="2200" spc="-1" strike="noStrike">
                <a:solidFill>
                  <a:srgbClr val="ffffff"/>
                </a:solidFill>
                <a:latin typeface="Book Antiqua"/>
              </a:rPr>
              <a:t>in the sentence!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1" marL="644400" indent="-316080"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200" spc="-1" strike="noStrike">
                <a:solidFill>
                  <a:srgbClr val="ffffff"/>
                </a:solidFill>
                <a:latin typeface="Book Antiqua"/>
              </a:rPr>
              <a:t>What are the verbs in the sentence?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2" marL="972720" indent="-327960"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ffffff"/>
                </a:solidFill>
                <a:latin typeface="Book Antiqua"/>
              </a:rPr>
              <a:t>Verbs: </a:t>
            </a:r>
            <a:r>
              <a:rPr b="1" lang="fr-CA" sz="2000" spc="-1" strike="noStrike" u="sng">
                <a:solidFill>
                  <a:srgbClr val="ffffff"/>
                </a:solidFill>
                <a:uFillTx/>
                <a:latin typeface="Book Antiqua"/>
              </a:rPr>
              <a:t>VEUT</a:t>
            </a:r>
            <a:r>
              <a:rPr b="0" lang="fr-CA" sz="2000" spc="-1" strike="noStrike">
                <a:solidFill>
                  <a:srgbClr val="ffffff"/>
                </a:solidFill>
                <a:latin typeface="Book Antiqua"/>
              </a:rPr>
              <a:t>    et    </a:t>
            </a:r>
            <a:r>
              <a:rPr b="1" lang="fr-CA" sz="2000" spc="-1" strike="noStrike" u="sng">
                <a:solidFill>
                  <a:srgbClr val="ffffff"/>
                </a:solidFill>
                <a:uFillTx/>
                <a:latin typeface="Book Antiqua"/>
              </a:rPr>
              <a:t>METTRE</a:t>
            </a:r>
            <a:r>
              <a:rPr b="0" lang="fr-CA" sz="20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fr-CA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322200" indent="-322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ffffff"/>
                </a:solidFill>
                <a:latin typeface="Book Antiqua"/>
              </a:rPr>
              <a:t>Get rid of your </a:t>
            </a:r>
            <a:r>
              <a:rPr b="1" lang="fr-CA" sz="2400" spc="-1" strike="noStrike" u="sng">
                <a:solidFill>
                  <a:srgbClr val="ffffff"/>
                </a:solidFill>
                <a:uFillTx/>
                <a:latin typeface="Book Antiqua"/>
              </a:rPr>
              <a:t>DE + WORD</a:t>
            </a:r>
            <a:r>
              <a:rPr b="1" lang="fr-CA" sz="24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fr-CA" sz="2400" spc="-1" strike="noStrike">
                <a:solidFill>
                  <a:srgbClr val="ffffff"/>
                </a:solidFill>
                <a:latin typeface="Book Antiqua"/>
              </a:rPr>
              <a:t>and put « en » </a:t>
            </a:r>
            <a:r>
              <a:rPr b="1" lang="fr-CA" sz="2400" spc="-1" strike="noStrike" u="sng">
                <a:solidFill>
                  <a:srgbClr val="ffffff"/>
                </a:solidFill>
                <a:uFillTx/>
                <a:latin typeface="Book Antiqua"/>
              </a:rPr>
              <a:t>BETWEEN THE VERBS</a:t>
            </a:r>
            <a:r>
              <a:rPr b="0" lang="fr-CA" sz="2400" spc="-1" strike="noStrike">
                <a:solidFill>
                  <a:srgbClr val="ffffff"/>
                </a:solidFill>
                <a:latin typeface="Book Antiqua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644400" indent="-316080"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000" spc="-1" strike="noStrike">
                <a:solidFill>
                  <a:srgbClr val="ffffff"/>
                </a:solidFill>
                <a:latin typeface="Book Antiqua"/>
              </a:rPr>
              <a:t>Il </a:t>
            </a:r>
            <a:r>
              <a:rPr b="1" i="1" lang="fr-CA" sz="3000" spc="-1" strike="noStrike">
                <a:solidFill>
                  <a:srgbClr val="ffffff"/>
                </a:solidFill>
                <a:latin typeface="Book Antiqua"/>
              </a:rPr>
              <a:t>ne</a:t>
            </a:r>
            <a:r>
              <a:rPr b="1" lang="fr-CA" sz="3000" spc="-1" strike="noStrike">
                <a:solidFill>
                  <a:srgbClr val="ffffff"/>
                </a:solidFill>
                <a:latin typeface="Book Antiqua"/>
              </a:rPr>
              <a:t> veut </a:t>
            </a:r>
            <a:r>
              <a:rPr b="1" i="1" lang="fr-CA" sz="3000" spc="-1" strike="noStrike">
                <a:solidFill>
                  <a:srgbClr val="ffffff"/>
                </a:solidFill>
                <a:latin typeface="Book Antiqua"/>
              </a:rPr>
              <a:t>pas</a:t>
            </a:r>
            <a:r>
              <a:rPr b="1" lang="fr-CA" sz="30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1" lang="fr-CA" sz="3000" spc="-1" strike="noStrike" u="sng">
                <a:solidFill>
                  <a:srgbClr val="ffffff"/>
                </a:solidFill>
                <a:uFillTx/>
                <a:latin typeface="Book Antiqua"/>
              </a:rPr>
              <a:t>en</a:t>
            </a:r>
            <a:r>
              <a:rPr b="1" lang="fr-CA" sz="3000" spc="-1" strike="noStrike">
                <a:solidFill>
                  <a:srgbClr val="ffffff"/>
                </a:solidFill>
                <a:latin typeface="Book Antiqua"/>
              </a:rPr>
              <a:t> mettre dans sa salade.</a:t>
            </a:r>
            <a:endParaRPr b="0" lang="en-US" sz="3000" spc="-1" strike="noStrike">
              <a:solidFill>
                <a:srgbClr val="ffffff"/>
              </a:solidFill>
              <a:latin typeface="Book Antiqua"/>
            </a:endParaRPr>
          </a:p>
          <a:p>
            <a:pPr marL="322200" indent="-322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22200" indent="-322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22200" indent="-322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spd="slow">
    <p:pull dir="l"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6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6" dur="1000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6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1" dur="1000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6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6" dur="1000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6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1" dur="1000"/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6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6" dur="1000"/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6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1" dur="1000"/>
                                        <p:tgtEl>
                                          <p:spTgt spid="3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6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6" dur="1000"/>
                                        <p:tgtEl>
                                          <p:spTgt spid="3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6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1" dur="1000"/>
                                        <p:tgtEl>
                                          <p:spTgt spid="3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6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6" dur="1000"/>
                                        <p:tgtEl>
                                          <p:spTgt spid="3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6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1" dur="1000"/>
                                        <p:tgtEl>
                                          <p:spTgt spid="3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Book Antiqua"/>
              </a:rPr>
              <a:t>How do I do this?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518760" y="1882800"/>
            <a:ext cx="8201160" cy="464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Cross out the DE + WORD in your sentence.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457200" indent="-45720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457200" indent="-45720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Replace it with “en”.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457200" indent="-45720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457200" indent="-45720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Put “en”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Book Antiqua"/>
              </a:rPr>
              <a:t>before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the 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1 verb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or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Book Antiqua"/>
              </a:rPr>
              <a:t>between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the 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2 verbs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.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Book Antiqua"/>
              </a:rPr>
              <a:t>REMEMBER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: There could be ONE verb or TWO verbs!!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00280" indent="-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If there are TWO verbs, </a:t>
            </a:r>
            <a:br>
              <a:rPr sz="2200"/>
            </a:br>
            <a:r>
              <a:rPr b="1" lang="en-US" sz="2200" spc="-1" strike="noStrike" u="sng">
                <a:solidFill>
                  <a:srgbClr val="ffffff"/>
                </a:solidFill>
                <a:uFillTx/>
                <a:latin typeface="Book Antiqua"/>
              </a:rPr>
              <a:t>ONE will end in –er, -ir, or –re!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spd="slow">
    <p:randomBar dir="vert"/>
  </p:transition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8" dur="500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3" dur="500"/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8" dur="500"/>
                                        <p:tgtEl>
                                          <p:spTgt spid="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1" dur="500"/>
                                        <p:tgtEl>
                                          <p:spTgt spid="3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Book Antiqua"/>
              </a:rPr>
              <a:t>Exemples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84" name="TextBox 9"/>
          <p:cNvSpPr/>
          <p:nvPr/>
        </p:nvSpPr>
        <p:spPr>
          <a:xfrm>
            <a:off x="1631160" y="2570040"/>
            <a:ext cx="628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Book Antiqua"/>
              </a:rPr>
              <a:t>Tu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85" name="TextBox 10"/>
          <p:cNvSpPr/>
          <p:nvPr/>
        </p:nvSpPr>
        <p:spPr>
          <a:xfrm>
            <a:off x="2286360" y="2570040"/>
            <a:ext cx="1072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Book Antiqua"/>
              </a:rPr>
              <a:t>mets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86" name="TextBox 11"/>
          <p:cNvSpPr/>
          <p:nvPr/>
        </p:nvSpPr>
        <p:spPr>
          <a:xfrm>
            <a:off x="3432960" y="2570040"/>
            <a:ext cx="219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Book Antiqua"/>
              </a:rPr>
              <a:t>du ketchup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87" name="TextBox 12"/>
          <p:cNvSpPr/>
          <p:nvPr/>
        </p:nvSpPr>
        <p:spPr>
          <a:xfrm>
            <a:off x="5517720" y="2570040"/>
            <a:ext cx="2513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Book Antiqua"/>
              </a:rPr>
              <a:t>sur tes frites.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88" name="TextBox 13"/>
          <p:cNvSpPr/>
          <p:nvPr/>
        </p:nvSpPr>
        <p:spPr>
          <a:xfrm>
            <a:off x="2025000" y="2570040"/>
            <a:ext cx="631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Book Antiqua"/>
              </a:rPr>
              <a:t>en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89" name="TextBox 14"/>
          <p:cNvSpPr/>
          <p:nvPr/>
        </p:nvSpPr>
        <p:spPr>
          <a:xfrm>
            <a:off x="2271240" y="5292720"/>
            <a:ext cx="4601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Book Antiqua"/>
              </a:rPr>
              <a:t>Tu en mets sur tes frites.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transition spd="slow">
    <p:split dir="out" orient="vert"/>
  </p:transition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57" dur="2000" fill="hold"/>
                                        <p:tgtEl>
                                          <p:spTgt spid="38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1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6" dur="2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48089E-006 -2.64168E-006 L -0.04256 -2.64168E-006 E">
                                      <p:cBhvr>
                                        <p:cTn id="270" dur="2000" fill="hold"/>
                                        <p:tgtEl>
                                          <p:spTgt spid="3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93398E-006 1.73028E-006 L 0.06758 0.00023 E">
                                      <p:cBhvr>
                                        <p:cTn id="274" dur="2000" fill="hold"/>
                                        <p:tgtEl>
                                          <p:spTgt spid="3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021 0.00046 L -0.17964 0.00046 E">
                                      <p:cBhvr>
                                        <p:cTn id="284" dur="2000" fill="hold"/>
                                        <p:tgtEl>
                                          <p:spTgt spid="3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9T15:50:51Z</dcterms:created>
  <dc:creator>Sarah</dc:creator>
  <dc:description/>
  <dc:language>en-US</dc:language>
  <cp:lastModifiedBy>Biega, Sarah</cp:lastModifiedBy>
  <cp:lastPrinted>2014-12-01T16:07:09Z</cp:lastPrinted>
  <dcterms:modified xsi:type="dcterms:W3CDTF">2014-12-02T17:30:52Z</dcterms:modified>
  <cp:revision>30</cp:revision>
  <dc:subject/>
  <dc:title>Le pronom « en »</dc:title>
</cp:coreProperties>
</file>